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834-EEC7-4D62-963F-C819BC48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EC4-B3E9-4120-94F5-A599910E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4DA-AFA4-4CD2-9159-523FD611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4A7-914F-4AB6-A124-882C76B7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73EE-18D0-47C0-BEA7-3AA966E4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741C-49F6-4FDC-811E-C8BD4A09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EC54-4EA6-48DC-B0F6-A368835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2BEF-2DA5-4D98-AB20-3F378D94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91AA-F388-467B-88BF-6F41A0E4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2FB0-4B84-4570-B454-5D592E2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3FF9-3D28-4122-A600-C76FE30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355-FF4C-438E-95A7-AD2D943D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8BC3-B0FC-47DA-AD3E-1046D975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6BA2-BB55-4219-AE9C-44588FD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6DAF-47AC-42A0-9C68-D2FC5571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669-2768-4B60-A50A-F37F15A8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9482-013E-45E9-8884-30B95926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09DE-BC41-408D-A3F0-D719297C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970B-6BF8-49A5-9AED-26E638F0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F349-342A-47D0-9B0F-7E751942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34DE-2745-4EBD-B1D1-4603ED0B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4FBDB-C0FA-4911-A117-AC12E876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ED9-E88C-4626-A085-16902DF5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D79A-3237-4809-8CDF-4BBA2CEF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E22C-4417-4D69-BF79-0A37927B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956F-A7A3-429E-A824-B952E2D7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3AC2-ED0E-42E3-B523-1E43E800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255A-B108-4F36-9802-B26DD058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9AE6-A144-4D98-B2D3-E0A7F9C9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2909-0237-4E3D-8B0D-853A7D64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DA96-BE95-418C-99C7-B44C5E68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F76A1-1375-4424-99A9-CF1BF521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EC0B-25CD-4384-9D15-375E717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678-FBA9-456C-9A57-8D84F40A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2211-3F1F-488E-8952-8452D4A5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F1EB-5CC5-4644-9A8F-C3F3974A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92E3-86A4-4246-B9F8-9C72F111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C676-2023-40B8-ADFD-0773E4C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F626-4A27-441C-BD51-FFFD9590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73B82-27B3-42C7-8091-E1FF62C4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0B56-E029-4B4C-957A-4AEDC26C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7480-E816-4CE0-B8EB-F99DC4D3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DC8D2-0E6D-4C18-A50F-FD00EE49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159-B31C-45A0-9CA9-9E7D3DD9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081-23CE-45C4-AFD4-7EF113C8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24F-3F22-4980-ADFA-83FC198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D0F-1CB8-4BC0-9785-2553B106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AC6-B85F-4E07-9D66-9BBE7C6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6444-6C4B-4C29-8E6C-8195FF7937D7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8000-A551-4614-8B4B-5323941C75BF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3772-FC86-4277-B569-A68F5160F5B9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B38D-FD43-415F-A89E-6DEC55E2DAFD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94FC-DCDF-4448-9073-31F910B34C67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2154-5EEA-4B57-8603-1EB4D62AF015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1CBF-C556-42AB-A7EA-67EF88219C15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63AD-519F-4BB2-A42E-128307832DB1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291960" y="639720"/>
            <a:ext cx="4363920" cy="8413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3C8E-227E-47B4-810A-EFBDA40A14A4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085040" y="213984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1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 + 6 x 2 = 26 or 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098000" y="288288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2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any euros do I get for £10 i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change rate is £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.4 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101240" y="390852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3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nswer to the question is 30. What is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es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Rectangle 13" descr=""/>
          <p:cNvPicPr/>
          <p:nvPr/>
        </p:nvPicPr>
        <p:blipFill>
          <a:blip r:embed="rId2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7"/>
          <p:cNvSpPr/>
          <p:nvPr/>
        </p:nvSpPr>
        <p:spPr>
          <a:xfrm>
            <a:off x="5896080" y="216216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7305840" y="3276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14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3505320" y="448632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1B98-E22A-4F20-8E0C-C0F51AD9F8D8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029200" y="3025800"/>
            <a:ext cx="383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able to write down mathematically the addition and subtraction of both positive and negative integ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 To explain how to write down mathematically  addition and subtraction of negative integ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Negative Numb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871360" y="1384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ddition &amp; Sub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Rectangle 14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5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FF25-70DE-480F-AB96-E3B755072011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"/>
          <p:cNvSpPr/>
          <p:nvPr/>
        </p:nvSpPr>
        <p:spPr>
          <a:xfrm>
            <a:off x="5435640" y="5943600"/>
            <a:ext cx="546120" cy="59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246400" y="444600"/>
            <a:ext cx="196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600880" y="74916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600880" y="965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600880" y="1181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5600880" y="1397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600880" y="161280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5600880" y="182880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5600880" y="204480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5600880" y="226044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5600880" y="2476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5600880" y="2692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5600880" y="2908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5600880" y="312408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577656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5337720" y="226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22"/>
          <p:cNvGrpSpPr/>
          <p:nvPr/>
        </p:nvGrpSpPr>
        <p:grpSpPr>
          <a:xfrm>
            <a:off x="5185080" y="574560"/>
            <a:ext cx="1021320" cy="1879560"/>
            <a:chOff x="5185080" y="574560"/>
            <a:chExt cx="1021320" cy="1879560"/>
          </a:xfrm>
        </p:grpSpPr>
        <p:sp>
          <p:nvSpPr>
            <p:cNvPr id="233" name="Text Box 23"/>
            <p:cNvSpPr/>
            <p:nvPr/>
          </p:nvSpPr>
          <p:spPr>
            <a:xfrm>
              <a:off x="5185080" y="574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5763600" y="803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5185080" y="981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5794920" y="166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4920" y="122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Text Box 28"/>
            <p:cNvSpPr/>
            <p:nvPr/>
          </p:nvSpPr>
          <p:spPr>
            <a:xfrm>
              <a:off x="5234400" y="145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Text Box 29"/>
            <p:cNvSpPr/>
            <p:nvPr/>
          </p:nvSpPr>
          <p:spPr>
            <a:xfrm>
              <a:off x="5234400" y="1844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Text Box 30"/>
            <p:cNvSpPr/>
            <p:nvPr/>
          </p:nvSpPr>
          <p:spPr>
            <a:xfrm>
              <a:off x="5794920" y="2085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1" name="Text Box 31"/>
          <p:cNvSpPr/>
          <p:nvPr/>
        </p:nvSpPr>
        <p:spPr>
          <a:xfrm>
            <a:off x="5794920" y="25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32"/>
          <p:cNvSpPr/>
          <p:nvPr/>
        </p:nvSpPr>
        <p:spPr>
          <a:xfrm>
            <a:off x="5337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247720" y="317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5600880" y="3363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5600880" y="3579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5600880" y="3795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5600880" y="401148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38"/>
          <p:cNvSpPr/>
          <p:nvPr/>
        </p:nvSpPr>
        <p:spPr>
          <a:xfrm>
            <a:off x="5600880" y="4227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39"/>
          <p:cNvSpPr/>
          <p:nvPr/>
        </p:nvSpPr>
        <p:spPr>
          <a:xfrm>
            <a:off x="5600880" y="4443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40"/>
          <p:cNvSpPr/>
          <p:nvPr/>
        </p:nvSpPr>
        <p:spPr>
          <a:xfrm>
            <a:off x="5600880" y="4659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5600880" y="487512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42"/>
          <p:cNvSpPr/>
          <p:nvPr/>
        </p:nvSpPr>
        <p:spPr>
          <a:xfrm>
            <a:off x="5600880" y="509112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43"/>
          <p:cNvSpPr/>
          <p:nvPr/>
        </p:nvSpPr>
        <p:spPr>
          <a:xfrm>
            <a:off x="5600880" y="530712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44"/>
          <p:cNvSpPr/>
          <p:nvPr/>
        </p:nvSpPr>
        <p:spPr>
          <a:xfrm>
            <a:off x="5600880" y="552276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45"/>
          <p:cNvSpPr/>
          <p:nvPr/>
        </p:nvSpPr>
        <p:spPr>
          <a:xfrm>
            <a:off x="5600880" y="57387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6"/>
          <p:cNvSpPr/>
          <p:nvPr/>
        </p:nvSpPr>
        <p:spPr>
          <a:xfrm>
            <a:off x="5839200" y="33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47"/>
          <p:cNvSpPr/>
          <p:nvPr/>
        </p:nvSpPr>
        <p:spPr>
          <a:xfrm>
            <a:off x="5197320" y="4078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Group 48"/>
          <p:cNvGrpSpPr/>
          <p:nvPr/>
        </p:nvGrpSpPr>
        <p:grpSpPr>
          <a:xfrm>
            <a:off x="5018040" y="4281480"/>
            <a:ext cx="1348920" cy="1968480"/>
            <a:chOff x="5018040" y="4281480"/>
            <a:chExt cx="1348920" cy="1968480"/>
          </a:xfrm>
        </p:grpSpPr>
        <p:sp>
          <p:nvSpPr>
            <p:cNvPr id="259" name="Text Box 49"/>
            <p:cNvSpPr/>
            <p:nvPr/>
          </p:nvSpPr>
          <p:spPr>
            <a:xfrm>
              <a:off x="5018040" y="588168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Text Box 50"/>
            <p:cNvSpPr/>
            <p:nvPr/>
          </p:nvSpPr>
          <p:spPr>
            <a:xfrm>
              <a:off x="5851080" y="55260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Text Box 51"/>
            <p:cNvSpPr/>
            <p:nvPr/>
          </p:nvSpPr>
          <p:spPr>
            <a:xfrm>
              <a:off x="5018040" y="53481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 Box 52"/>
            <p:cNvSpPr/>
            <p:nvPr/>
          </p:nvSpPr>
          <p:spPr>
            <a:xfrm>
              <a:off x="5883120" y="4726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Text Box 53"/>
            <p:cNvSpPr/>
            <p:nvPr/>
          </p:nvSpPr>
          <p:spPr>
            <a:xfrm>
              <a:off x="5895720" y="51325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Text Box 54"/>
            <p:cNvSpPr/>
            <p:nvPr/>
          </p:nvSpPr>
          <p:spPr>
            <a:xfrm>
              <a:off x="5081400" y="492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Text Box 55"/>
            <p:cNvSpPr/>
            <p:nvPr/>
          </p:nvSpPr>
          <p:spPr>
            <a:xfrm>
              <a:off x="5119200" y="449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56"/>
            <p:cNvSpPr/>
            <p:nvPr/>
          </p:nvSpPr>
          <p:spPr>
            <a:xfrm>
              <a:off x="5895720" y="4281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7" name="Text Box 57"/>
          <p:cNvSpPr/>
          <p:nvPr/>
        </p:nvSpPr>
        <p:spPr>
          <a:xfrm>
            <a:off x="5883120" y="3849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5197320" y="362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59"/>
          <p:cNvSpPr/>
          <p:nvPr/>
        </p:nvSpPr>
        <p:spPr>
          <a:xfrm>
            <a:off x="1007280" y="2128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 + 4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60"/>
          <p:cNvSpPr/>
          <p:nvPr/>
        </p:nvSpPr>
        <p:spPr>
          <a:xfrm>
            <a:off x="1059840" y="35766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 + ( - 8)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61"/>
          <p:cNvSpPr/>
          <p:nvPr/>
        </p:nvSpPr>
        <p:spPr>
          <a:xfrm>
            <a:off x="1144440" y="50245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-7 – (- 10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71"/>
          <p:cNvSpPr/>
          <p:nvPr/>
        </p:nvSpPr>
        <p:spPr>
          <a:xfrm>
            <a:off x="3123720" y="412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72"/>
          <p:cNvSpPr/>
          <p:nvPr/>
        </p:nvSpPr>
        <p:spPr>
          <a:xfrm>
            <a:off x="3246840" y="5532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76"/>
          <p:cNvSpPr/>
          <p:nvPr/>
        </p:nvSpPr>
        <p:spPr>
          <a:xfrm>
            <a:off x="3192840" y="2133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77"/>
          <p:cNvSpPr/>
          <p:nvPr/>
        </p:nvSpPr>
        <p:spPr>
          <a:xfrm>
            <a:off x="1257480" y="2857680"/>
            <a:ext cx="1244520" cy="761760"/>
          </a:xfrm>
          <a:prstGeom prst="cloudCallout">
            <a:avLst>
              <a:gd name="adj1" fmla="val 22958"/>
              <a:gd name="adj2" fmla="val -100000"/>
            </a:avLst>
          </a:prstGeom>
          <a:solidFill>
            <a:srgbClr val="77d9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rt at 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AutoShape 78"/>
          <p:cNvSpPr/>
          <p:nvPr/>
        </p:nvSpPr>
        <p:spPr>
          <a:xfrm>
            <a:off x="2654280" y="2781360"/>
            <a:ext cx="1193760" cy="698400"/>
          </a:xfrm>
          <a:prstGeom prst="cloudCallout">
            <a:avLst>
              <a:gd name="adj1" fmla="val -37763"/>
              <a:gd name="adj2" fmla="val -88180"/>
            </a:avLst>
          </a:prstGeom>
          <a:solidFill>
            <a:srgbClr val="91c6f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o up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Cloud 81"/>
          <p:cNvSpPr/>
          <p:nvPr/>
        </p:nvSpPr>
        <p:spPr>
          <a:xfrm>
            <a:off x="6184800" y="584280"/>
            <a:ext cx="3111480" cy="2705040"/>
          </a:xfrm>
          <a:prstGeom prst="pie">
            <a:avLst/>
          </a:prstGeom>
          <a:solidFill>
            <a:srgbClr val="8ad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 -” side by side replace by single “-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Cloud 82"/>
          <p:cNvSpPr/>
          <p:nvPr/>
        </p:nvSpPr>
        <p:spPr>
          <a:xfrm>
            <a:off x="6032520" y="4000680"/>
            <a:ext cx="3111480" cy="2705040"/>
          </a:xfrm>
          <a:prstGeom prst="pie">
            <a:avLst/>
          </a:prstGeom>
          <a:solidFill>
            <a:srgbClr val="94f5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-” side by side replace by single “+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3"/>
          <p:cNvSpPr/>
          <p:nvPr/>
        </p:nvSpPr>
        <p:spPr>
          <a:xfrm>
            <a:off x="2362320" y="3632040"/>
            <a:ext cx="711000" cy="3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84"/>
          <p:cNvSpPr/>
          <p:nvPr/>
        </p:nvSpPr>
        <p:spPr>
          <a:xfrm>
            <a:off x="2012040" y="41212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 - 8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61"/>
          <p:cNvSpPr/>
          <p:nvPr/>
        </p:nvSpPr>
        <p:spPr>
          <a:xfrm>
            <a:off x="2038680" y="554508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-7 + 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86"/>
          <p:cNvSpPr/>
          <p:nvPr/>
        </p:nvSpPr>
        <p:spPr>
          <a:xfrm>
            <a:off x="2451240" y="5079960"/>
            <a:ext cx="711000" cy="3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Straight Connector 90"/>
          <p:cNvSpPr/>
          <p:nvPr/>
        </p:nvSpPr>
        <p:spPr>
          <a:xfrm>
            <a:off x="5587920" y="3365640"/>
            <a:ext cx="2541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Rectangle 75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76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E4D8-D6C7-4C53-B379-F3E635801754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733920" y="257796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733920" y="319248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733920" y="380700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733920" y="442116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733920" y="503568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733920" y="565164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695760" y="259092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-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295280" y="259092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1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 -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295280" y="320184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2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 + (-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295280" y="381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3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7 – (- 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1295280" y="442584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4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2 + (-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1295280" y="5038560"/>
            <a:ext cx="35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5)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5 – (-2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1295280" y="56516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6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8 + (-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1459080" y="18892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b5395"/>
                </a:solidFill>
                <a:uFillTx/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3695760" y="3201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3695760" y="381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3695760" y="4425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-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3695760" y="503856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3695760" y="5651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9aaf2"/>
                </a:solidFill>
                <a:latin typeface="Comic Sans MS"/>
              </a:rPr>
              <a:t>Negative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59aaf2"/>
                </a:solidFill>
                <a:latin typeface="Comic Sans MS"/>
              </a:rPr>
              <a:t>Numb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AutoShape 29"/>
          <p:cNvSpPr/>
          <p:nvPr/>
        </p:nvSpPr>
        <p:spPr>
          <a:xfrm>
            <a:off x="5372280" y="2387520"/>
            <a:ext cx="3606480" cy="3162240"/>
          </a:xfrm>
          <a:prstGeom prst="cloudCallout">
            <a:avLst>
              <a:gd name="adj1" fmla="val -43703"/>
              <a:gd name="adj2" fmla="val 63754"/>
            </a:avLst>
          </a:prstGeom>
          <a:solidFill>
            <a:srgbClr val="4fc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-” = 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- -” = 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Rectangle 28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9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5CAE-CAD0-4B57-9558-143C5F527524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81200" y="5830920"/>
            <a:ext cx="7914960" cy="160200"/>
          </a:xfrm>
          <a:prstGeom prst="rect">
            <a:avLst/>
          </a:prstGeom>
          <a:solidFill>
            <a:srgbClr val="55a839"/>
          </a:solidFill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Text Box 3" descr=""/>
          <p:cNvPicPr/>
          <p:nvPr/>
        </p:nvPicPr>
        <p:blipFill>
          <a:blip r:embed="rId1"/>
          <a:stretch/>
        </p:blipFill>
        <p:spPr>
          <a:xfrm>
            <a:off x="798480" y="1920960"/>
            <a:ext cx="7900920" cy="39434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fceff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Rectangle 13" descr=""/>
          <p:cNvPicPr/>
          <p:nvPr/>
        </p:nvPicPr>
        <p:blipFill>
          <a:blip r:embed="rId2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8"/>
          <p:cNvSpPr/>
          <p:nvPr/>
        </p:nvSpPr>
        <p:spPr>
          <a:xfrm>
            <a:off x="1104840" y="48196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btracting   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1114560" y="355284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dding 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Caroline</cp:lastModifiedBy>
  <dcterms:modified xsi:type="dcterms:W3CDTF">2009-05-25T20:23:35Z</dcterms:modified>
  <cp:revision>72</cp:revision>
  <dc:subject/>
  <dc:title>Slide 1</dc:title>
</cp:coreProperties>
</file>